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E1A-69E5-488F-87F2-CD254E4F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09D-FF09-4C9B-A7DA-1F876CE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6E2-F558-458F-8C7D-00B841BE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BE1-7BF8-455E-9E5C-3B113E50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932-F425-48F6-9315-74505EE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DB4-20E9-4219-99DA-0FEBE4F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CA6-5E60-497D-ACCF-C6C12AF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A6B-3F4B-4813-8423-02AD923D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05C-8C99-4081-95C8-A18FF9C8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930-0302-4C48-97A8-AA1ACC95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23C-1A22-4CC5-A380-CB41C95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EFC-BA09-4368-B549-C4A7A10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158D-E11A-48DF-A7C0-52068E67E2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468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8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8.54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5480" y="2882880"/>
            <a:ext cx="830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8924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95400" y="481320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3 /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20.56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562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78760" y="2619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19400" y="55357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0520" y="51339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13360" y="45212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5920" y="2143080"/>
            <a:ext cx="3508200" cy="1896120"/>
            <a:chOff x="385920" y="2143080"/>
            <a:chExt cx="3508200" cy="1896120"/>
          </a:xfrm>
        </p:grpSpPr>
        <p:sp>
          <p:nvSpPr>
            <p:cNvPr id="59" name=""/>
            <p:cNvSpPr/>
            <p:nvPr/>
          </p:nvSpPr>
          <p:spPr>
            <a:xfrm>
              <a:off x="1014480" y="2143080"/>
              <a:ext cx="2879640" cy="144000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14480" y="2728800"/>
              <a:ext cx="0" cy="181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97080" y="3578400"/>
              <a:ext cx="181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14480" y="3400560"/>
              <a:ext cx="17928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3840" y="2735280"/>
              <a:ext cx="177840" cy="87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5920" y="2757600"/>
              <a:ext cx="52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3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87480" y="3701880"/>
              <a:ext cx="54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8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9864800">
              <a:off x="3169800" y="3246840"/>
              <a:ext cx="41544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0360" y="32227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0520" y="241452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54476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5.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7.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9.14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119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5480" y="2882880"/>
            <a:ext cx="126360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3232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95400" y="515628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7.3 / 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53.0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562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6200" y="2619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9400" y="58784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16360" y="5477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13360" y="48639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1520" y="1815840"/>
            <a:ext cx="3429000" cy="2552040"/>
            <a:chOff x="371520" y="1815840"/>
            <a:chExt cx="3429000" cy="2552040"/>
          </a:xfrm>
        </p:grpSpPr>
        <p:sp>
          <p:nvSpPr>
            <p:cNvPr id="87" name=""/>
            <p:cNvSpPr/>
            <p:nvPr/>
          </p:nvSpPr>
          <p:spPr>
            <a:xfrm flipH="1">
              <a:off x="371520" y="1971720"/>
              <a:ext cx="2627280" cy="197964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98800" y="2776680"/>
              <a:ext cx="0" cy="249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754280" y="3944880"/>
              <a:ext cx="1648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820960" y="3772080"/>
              <a:ext cx="17928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760400" y="2785320"/>
              <a:ext cx="162000" cy="119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86000" y="275760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5.5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44480" y="4030560"/>
              <a:ext cx="6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7.3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4886600">
              <a:off x="2707920" y="1863360"/>
              <a:ext cx="41580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44" y="5"/>
                  </a:moveTo>
                  <a:arcTo wR="10800" hR="10800" stAng="-5290353" swAng="5290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44" y="5"/>
                  </a:moveTo>
                  <a:arcTo wR="10800" hR="10800" stAng="-5290353" swAng="5290353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485440" y="23083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32080" y="254304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4476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10.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4.8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1.09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833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6880" y="2882880"/>
            <a:ext cx="126360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00240" y="4175280"/>
            <a:ext cx="614376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09960" y="494172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4.8 / 1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25.64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276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80440" y="251928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33960" y="56642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73720" y="53481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7920" y="46497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2680" y="2100240"/>
            <a:ext cx="2590560" cy="3970080"/>
            <a:chOff x="382680" y="2100240"/>
            <a:chExt cx="2590560" cy="3970080"/>
          </a:xfrm>
        </p:grpSpPr>
        <p:sp>
          <p:nvSpPr>
            <p:cNvPr id="115" name=""/>
            <p:cNvSpPr/>
            <p:nvPr/>
          </p:nvSpPr>
          <p:spPr>
            <a:xfrm flipH="1" flipV="1">
              <a:off x="384840" y="2471040"/>
              <a:ext cx="1726920" cy="359892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2840" y="3719520"/>
              <a:ext cx="0" cy="2491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39760" y="4047480"/>
              <a:ext cx="66600" cy="135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934280" y="2471760"/>
              <a:ext cx="17964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1840" y="2471760"/>
              <a:ext cx="1904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" y="2100240"/>
              <a:ext cx="6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.8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3320" y="4087800"/>
              <a:ext cx="79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0.0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3378600">
              <a:off x="1609920" y="4970520"/>
              <a:ext cx="599400" cy="64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70" y="607"/>
                  </a:moveTo>
                  <a:arcTo wR="10800" hR="10800" stAng="-4241930" swAng="55574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70" y="607"/>
                  </a:moveTo>
                  <a:arcTo wR="10800" hR="10800" stAng="-4241930" swAng="5557437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66000" y="45943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2680" y="329868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44468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35728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4.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4.5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6.36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1960" y="242424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5480" y="2882880"/>
            <a:ext cx="12733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08924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95400" y="481320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4.5 /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56280" y="32353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37320" y="26622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8600" y="17780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497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44800" y="51055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13360" y="45212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5840" y="2057400"/>
            <a:ext cx="2347920" cy="2053440"/>
            <a:chOff x="285840" y="2057400"/>
            <a:chExt cx="2347920" cy="2053440"/>
          </a:xfrm>
        </p:grpSpPr>
        <p:sp>
          <p:nvSpPr>
            <p:cNvPr id="143" name=""/>
            <p:cNvSpPr/>
            <p:nvPr/>
          </p:nvSpPr>
          <p:spPr>
            <a:xfrm>
              <a:off x="1014480" y="2143080"/>
              <a:ext cx="1619280" cy="1619280"/>
            </a:xfrm>
            <a:prstGeom prst="rtTriangl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14480" y="2801880"/>
              <a:ext cx="0" cy="203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9400" y="3757680"/>
              <a:ext cx="1018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4480" y="3571920"/>
              <a:ext cx="179280" cy="1792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7960" y="2807640"/>
              <a:ext cx="100080" cy="98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5840" y="2757600"/>
              <a:ext cx="6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.5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30360" y="3773520"/>
              <a:ext cx="6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.5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11436600">
              <a:off x="842040" y="2091600"/>
              <a:ext cx="41652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7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74640"/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42840" y="2522520"/>
              <a:ext cx="500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32040" y="2700360"/>
              <a:ext cx="33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544760"/>
            <a:ext cx="9144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) Calculate the resultant force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670800"/>
            <a:ext cx="14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2010 James Fergu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5280" y="4392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5b Vectors and Equation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 FOR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ebdings"/>
                <a:ea typeface="Webdings"/>
              </a:rPr>
              <a:t>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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0mins appr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6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esultan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371760"/>
            <a:ext cx="4672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Force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 Force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√ 13.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+3.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sultant Force = 13.61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11960" y="3438360"/>
            <a:ext cx="219852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5480" y="3897360"/>
            <a:ext cx="13208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703760"/>
            <a:ext cx="8929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6040" indent="-716040"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b) Calculate the resultant angle </a:t>
            </a:r>
            <a:r>
              <a:rPr b="0" lang="el-GR" sz="2600" spc="-1" strike="noStrike">
                <a:solidFill>
                  <a:srgbClr val="ffffff"/>
                </a:solidFill>
                <a:latin typeface="Comic Sans MS"/>
              </a:rPr>
              <a:t>θ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33840"/>
            <a:ext cx="415764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opposite / adja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ta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3.3 / 1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Θ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14.04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56280" y="42498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47120" y="361944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78600" y="64008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6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48600" y="279252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9280" y="6156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6400" y="5769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3240" y="514188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2800" y="2000160"/>
            <a:ext cx="4749840" cy="1187640"/>
          </a:xfrm>
          <a:prstGeom prst="rtTriangl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191200" y="2319120"/>
            <a:ext cx="1440" cy="29196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33640" y="3187800"/>
            <a:ext cx="1634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6160" y="3000240"/>
            <a:ext cx="179640" cy="17964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57560" y="2452320"/>
            <a:ext cx="214200" cy="57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43480" y="240048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3.3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325908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3.2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rot="7867200">
            <a:off x="1323000" y="2806200"/>
            <a:ext cx="415080" cy="46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4" y="5"/>
                </a:moveTo>
                <a:arcTo wR="10800" hR="10800" stAng="-5290353" swAng="5290353"/>
                <a:lnTo>
                  <a:pt x="10800" y="10800"/>
                </a:lnTo>
                <a:close/>
              </a:path>
              <a:path fill="none" w="21600" h="21600">
                <a:moveTo>
                  <a:pt x="11144" y="5"/>
                </a:moveTo>
                <a:arcTo wR="10800" hR="10800" stAng="-5290353" swAng="5290353"/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9160" y="285264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9440" y="207180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9:31:54Z</dcterms:created>
  <dc:creator/>
  <dc:description/>
  <dc:language>en-US</dc:language>
  <cp:lastModifiedBy/>
  <dcterms:modified xsi:type="dcterms:W3CDTF">2010-09-24T12:53:08Z</dcterms:modified>
  <cp:revision>36</cp:revision>
  <dc:subject/>
  <dc:title>Slide 1</dc:title>
</cp:coreProperties>
</file>